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4E07-82DE-48F0-8D3A-6505522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6E025-5601-44CC-93E9-933E426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4D621-FF02-4A7E-81FF-405DDE9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82C5D-6CF8-4DEC-BD8C-58485833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C48BF-020E-426E-8D20-ABC215C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2CE4D-C220-44EF-B608-216125D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476A6-F3DE-48B7-924D-452555D1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61BF1-6AEB-4D11-A7B1-A92B2A0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877C1-D687-4313-A2F4-E1559FF1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70B8D-4ACD-4213-AEE2-65C5CC59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2D109-7B1C-45D9-A5E8-8352574F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FF1B3-4245-4924-AC19-2D071BF3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CE8B-F2EB-459D-AE4B-21FA9BAC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3D99A-B724-4D8D-AF04-7ECD3E4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ED8C7-7512-4B1D-9322-2C3D92D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1EEDA-9C30-4885-BAFD-8277CE5B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5D933-5D60-4265-97E1-DC39ED03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04A7F-6C96-4E92-9132-39572D75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2C45B-8485-4AC4-8177-15973B5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E0C16-4170-4B28-AA6F-25F32A61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4FF00-6CE0-4FF0-8A2A-A5B2E83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F188F-9AEA-4CC4-B993-5D680C4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DC7DF-3351-4B73-A095-3C7EB2C5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B20E-C06E-45A6-A371-C25F10FD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35625-9777-41A0-81B2-1C7A2A38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1F18-6432-4CDE-A3B1-39356F7D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5C57-7AA4-4703-9A8B-0EB15E8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00A0C-C7A5-4DDB-AA44-9589EFC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E88D2-DA9E-423B-B2E4-B4093CF8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41C3E-EA6A-4CD4-B65F-A2327EC2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CA1A5-2FAB-4105-89DD-BE6DC7F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19D68-934A-472F-AD6F-202A8F9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C6404-A720-4C79-BF92-CB54107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E7622-B6E0-4465-9D8D-8269468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D2E-D985-42D8-8BA2-3AAA3C50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88375-FE48-450A-90B1-C8FD2921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70B96-946E-4B9B-9713-39F8BAF7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93827-AE36-4B8F-9B6A-1D0F84DB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F4D22-532A-445C-AACD-EF23125F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052D4-1904-4AF1-8EDD-8A6C5C85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4FA6C-6645-4EB3-9327-C6F42B5E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6C27E-F212-4E9D-962B-BE357A5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24EED-A572-47A5-8135-2462BCF1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BFCB5-764E-4BD9-8F21-63D11C4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C3BFF-65C2-478B-8FD4-5AA47592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FC01-B473-4861-9EFA-79686DD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A9B03-9806-441C-BEF5-0673363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3D130-20C8-4E9F-A118-7902650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95AD1-8BAB-4342-B9E8-69B4AC10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4F55E-C6B7-40DC-8439-314786D3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32565-B5F8-4554-B760-19070BBC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148A6-2400-40D1-96DD-3750619BD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63141-0BCF-44D6-821B-9C68DA88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8C6A4-1CA1-43C9-A305-DE03756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BF143-D72D-419C-BD21-3B5BC21D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03665-6F72-4D43-A64D-1CC4E723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8FB4-CB6A-4ED0-92C7-637C63D6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E62DB-B299-4504-AC12-77AA2C74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D150D-E1F1-4EE0-B2E5-C5B53877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49F8C-4525-4A4B-80B0-4B7B6176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C74FDA-8BBC-4E2F-A4A6-D2A3E5C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9FD4C-5DE8-4893-BA8A-463A0A10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9D009-1483-41A5-BF4E-BB798CF5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290DF-A3A7-4288-92A9-AF7DBD53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316E2-5982-423B-8D73-2089D8EA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F697B-680A-47F7-B9B1-6909AC9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72625-8867-4E72-A08C-3C9F5ADE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1378-1DA8-4371-B411-F758A4E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CF55B-617A-49C1-8A8C-CE8489DF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474D16-CCBB-4DF9-9149-5E032EE8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6854D5-CA74-4B37-8EA2-53B0A23E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DF811-E6EF-46E0-BEAC-B2B329A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16935-A61A-4185-ADB8-785A648A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24431-E870-41E6-A531-7093F613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AA311-91B8-4A6E-88DD-459B66B6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DFC34-5A29-4188-AE18-F1A4798E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281E7-9186-46ED-9CF0-41380E587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A236-BA04-40DC-8133-7DF58541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C3C6-BCB2-4235-917A-0C973DAA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9E48-1273-4B43-8D03-118AC238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F91B-1E76-484D-9D7F-63DCC12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3E67-618E-4FCC-9EF1-1F2A0C41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3EFF-F138-42F2-A3C7-D47A5141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AEBD-9CFD-4CB9-9096-0B3D36B2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8AF9-5185-404B-A354-FD2BC53A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EDCD-1921-4B4F-B36C-2F87EF23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C3AF-2C16-4958-A0D8-3114EBCE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FB5B-32E2-490A-A6A6-2851289A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FD164-7B8A-40D3-9B47-CBA68F5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A656-BB33-46E4-9E5F-0ADADA4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BA18D-CAC3-43EF-B579-C0886515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169C-B048-4258-A1C3-DDDA50BF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586D-6D43-4B33-B15A-B82E7FFE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CDBC-F39C-43F6-A554-FA7DA2DD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01E3-B6FE-4700-A7B0-AE3345AD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3EA1A-C317-4D0E-9C13-CAC4C83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EF8C-F42A-48FC-B02D-4DB3DCFE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7EB9B-CD96-4500-BC35-72FDB4AD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6434B-2389-4FC7-ACC0-B1490F2E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EA43-148B-44F3-9CE0-6199745B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3BD2-1CE4-40AE-867B-2E3479C8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1DA2-A17B-4805-AC05-D3E01CB0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8501-CB46-44DC-862F-6EACEC17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09B5-125D-4E18-B8C2-FDEDE10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CA611-8FC9-4C51-AB0D-AD87E3CC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55E6-04C2-49A3-BC79-E4F0FC6A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F64AE-C9DB-4FBC-AAB2-575BEB4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F908-10BB-4C5F-B27D-DA1B51CB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BC102-946E-4D93-B2C5-B0343160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9631B-12F6-4098-9091-98256B0C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55435-8A58-4100-8699-1EC188BB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E7B0-27B1-406B-B6AC-7369B330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6EBC21-6585-4213-87C6-AA7FE615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FA5AC-1F74-48C2-B5F3-8E088A30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3B293-BD1A-4BBE-AF3C-8BCAD052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69E80-A789-4906-A9DD-7D7B873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195AE-8953-4140-8FB6-71DFE41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75AE9E-C5AC-4C5A-8DDE-8EDAAAE2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0F8EF-0986-4526-A7D6-A11B014B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92FD5-4C0E-45A4-9AC7-CBC9DF1C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DAC49-C8C4-4520-8CE6-45CDE039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805F0-F90D-46A3-B09A-55343E07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78F64-1F09-43F7-835A-F238AA7B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FEE01-5D7E-4589-B0B7-C0DEC442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0107E-EAFE-4755-9CAD-D2C2B0DA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0B83C-8522-4F57-814E-1B27E532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8318-5CD6-4662-8447-AE226FDE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75803-E23D-47E1-8CD3-E88D01C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746CC-75FA-4142-828D-7413517E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201D-C32E-4C19-B3BC-F692642E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A948E-C7D6-4967-A183-82E1ABFC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484F8-0218-4331-953F-9E7644A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2955-C729-4A6E-BC79-BD68BD3D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780D-B242-4B0B-9AD4-E946461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D7EDF-89D3-403F-BE01-CF25001A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69F6-61B9-4901-8A94-2EED996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DEDB-F125-4472-9933-C2F5E304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78C04-D559-41F4-B385-3551C63C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2C5A-0848-46A3-9FF1-65092096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17025-8AF2-4D3F-B2E5-E5B34EC1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C2582-A988-4E59-A5D7-1292224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EAEBF-CBE8-40F6-9464-2B1AEE17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00CE6-952D-4018-8644-1769955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729ED-5E36-42B8-BAFB-AF0988BE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45729-5BEF-4100-ADBE-33F23A2D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5F2A9-899E-4688-8299-A56E8BED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21813-7264-4E27-83D3-A285F15B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AA3B3-E690-40E1-BB9A-90A2DD0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32882-9E63-417D-86D4-084B9AD6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0A41-A758-4C8B-96E6-087543AD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0D92-0B80-46FF-A54C-B38B830C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5DD98-2C8F-4BC2-8A59-F45D048C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74EA3-BCF8-46E2-81A1-750B8ACB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484B-FE9F-4794-86FE-0D60373C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B059-DC59-4AF0-9C03-A366623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5CFE-F7F6-4048-B1FD-98E749D7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327B4-8A91-4112-8248-FCDABAE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EC6B-9A96-4315-977F-E9B7158C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1BD9E-1C15-4AA1-BDEF-870949CC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5C3B0-571B-4D4E-99D7-5DC50654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836E5-B28C-48B8-9438-C0E0900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0C57-C4FA-423E-AAC5-4307D13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54D84-1DD6-48B9-AE94-9713F8B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98A72-C169-402B-8BCF-54EAB60A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AAD86-0090-4C27-A862-F1F0DD36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0C0D7-A149-4AB8-A301-C27FE81E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C9CC-876C-4DDD-9A07-46BE427D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C85A0-AAC3-4FEC-8503-9CB7305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7870-218A-4AC8-8C6D-A50A7AE98F7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3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3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5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82D2-0C96-4D07-BF84-83C3BB97144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0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1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3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6326-4F10-414F-9374-734B35C6EB6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8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8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394E-F376-4DC5-8508-96FF602FBD3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7878-C11D-47E8-BD45-FCB99F71D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E50A-5B00-4E8F-A8E0-EDC7CA93A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A5C-7AB9-4696-A4AB-1AE267994A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FBB2-C451-4D3C-B9E8-8082915234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0C16-A32B-4F1B-8732-261B79E0E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451-FEC3-4201-A8BD-1143FD116B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281-2887-45D9-98E2-2E6B54DB3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0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C80-60CE-4DF1-83D4-46FBAD4DDA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2D7D-A912-41EA-A225-47D3AADDA7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5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0344-3562-4C4E-8E05-CE5B4D0E451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three branches of governmen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hree branches of government are the Legislative, Judicial, and Executive branch.  They all can make sure that one doesn't get to powerful with a system called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Checks and  bala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vice president and the cabinet members can vote the president out if he has done his du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ll the information of the three branches of government and how they keep each other in check thank you for watching this PowerPoi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is PowerPoint was made by Kenneth Perinchief 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 special thanks to Mr.D for all of the information on the three branches of govern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 couldn't have done with out yo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checks and bal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and balances is a system that lets the branches check each other to make sure the other two don’t get to much po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en congress makes a law the president can veto it but congress can override the veto if two thirds of representatives from both the houses agree to the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n they can pass the law as long as supreme court  says its constitu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most Extreme method congress uses is to remove the president or supreme court justices from office in a process called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mpeach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do this congress has to the charge the president or justices for a serious cr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senate then makes a trial if two thirds of them say to convict the president or justice is removed from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 the legislative branch decides who the president’s cabinet members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approves who the supreme court justices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udicial branch is made out of the  supreme court and the lowe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ases are dealt with the lowe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job of the supreme court is to be the final court of app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udi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reme has the right to check congress and the president by declaring laws unconstitut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ve the right to declare the president acts unconstitutional and try him for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branc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xecutive branch includes the president the vice president and the president’s cabinet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congress makes the law the president has the right to veto the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ident also chooses who the supreme court justices 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3:12Z</dcterms:created>
  <dc:creator>Kenneth.Perinchief</dc:creator>
  <dc:description/>
  <dc:language>en-US</dc:language>
  <cp:lastModifiedBy>HP Authorized Customer</cp:lastModifiedBy>
  <dcterms:modified xsi:type="dcterms:W3CDTF">2008-04-27T22:05:34Z</dcterms:modified>
  <cp:revision>4</cp:revision>
  <dc:subject/>
  <dc:title>The three branches of government</dc:title>
</cp:coreProperties>
</file>